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841-8789-44C2-A854-294AD396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6F6-9B2A-4359-9293-DCD5B06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97627-6C7D-4F4F-A83B-6810CB3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9627D-17D6-4C33-956E-5C27B5DB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96182-BF01-4039-ABE0-41D12A56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C592-5B17-43D1-8797-A57ACA6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2A332-A3BB-4655-B79A-201ABC4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C86E-F1AD-45E9-8734-8018BA6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069A-B51D-466F-86F8-D7133C9B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6A08-EA6E-4542-993A-3A605E24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C93E-E6A7-4897-850B-32771E86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DFC6-FF12-4AED-88B6-B00506A5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532-670D-449A-B2CA-D37410B6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E014C-96BE-4B71-87ED-E11EE357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EB45E-F31F-4FC4-8031-38136EC8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14CA-D9B5-444D-8658-BACAB78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0B69A-3B57-4BD1-936B-A02E60DB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B9DB3-BCD2-4480-9803-AA9CEA7A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21475-3B8C-41BC-91A7-164F1D8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96499-BA4D-481D-BF96-3F370A3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907BA-933F-44A8-BEFB-B6CC107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AAEBF-4F84-401E-A92F-157CFA4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9D4FB-9921-422C-8F2E-F0C4A687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518-AC38-4BBF-89F3-F4F87AD0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A4FE3-6BD4-4B7B-B3E6-8B508645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1C94-A969-45E7-BF95-D2211862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692B3-511D-42C9-BB07-2E0A3DD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7692C-16DF-458F-ABF8-80FAC51C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9EA5-67BB-47DA-85B2-551D9C08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0049F-E0C5-4F5F-A840-28835293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5FC4-FAE4-4F90-8C7F-E5D31865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47D4-4014-4603-95D2-A2A2BB97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0B310-A543-4D76-91CC-A5104EE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ECEB2-FD02-4E6B-B73E-1C09FBD6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E025-D0AC-47BB-9C43-3E35572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37559-9642-446B-A240-100EC58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753F1-7E57-4E00-A9E6-58A8CC0D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7D6E9-5D63-4400-9742-1291A74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2E55A-2215-4852-A137-666FE38E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38C1E-BA28-4E9F-AC13-ACECC03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798C8-8562-4DA2-BEDB-6268361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FE414-04F0-4840-90FD-43773FA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2604-6D9E-44C3-BD84-68415CDB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2EF0B-3A40-4C74-97BA-B0B247B9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8EFF6-2309-4421-A981-6F6D291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1C9C-52B8-4CDF-AD42-107DC010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1BAB7-6E0D-427A-88BE-FEF6A1E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7E365-331B-4E55-AF30-0E31382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DEF15-76DE-46FF-8F38-75F4D42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A6B60-2F9C-4B1D-8893-C1B717F0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73CBC-E883-4D1F-AAD1-608D2B91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12CEE-3A41-4904-A667-AAF6EC5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26647-C668-4412-9989-2945F35F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461A2-D0B3-4056-BFFD-52D7BE9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D113F-84E2-4CCF-A32E-0063E83D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9D572-C17F-41C2-B873-9D282DE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AC0-5BD3-45F8-B71A-C682544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17161-EBC1-49C5-AD3A-A91B4FF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D1CD4-17FD-4814-98DC-36572C7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FAA9A-DC6D-46F6-8427-69664E6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63A7F-1465-41B1-90E0-EBAFD04F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A4B47-84EF-4EE2-BF85-5F559FD8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51323-269A-46C4-BC5E-D382144B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0AD2B-DADD-4D50-B50B-96FDF548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48D36-E326-44B4-ABB2-D1536B1B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47225-FE5A-4537-ACAB-F9B8FDA6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A0894-F06A-4D15-B084-AF0D004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598-59D3-4865-B779-9CB84294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2DB5C-0297-43D2-9187-24B6293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D99AA-1926-44C4-8EAC-41AF4CE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EACA8-13B2-484F-BB50-72D1499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5A191-24CD-43B0-A416-D83C3CC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9FAD1-2881-43F5-96CB-C495375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DB761-B0DD-4A4B-B406-694529EE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4ED77-81C9-4E09-AC11-7D58A62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66783-DD3E-4DDB-892B-4D15C8DB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B0116-AF63-4EBD-BD61-B9BA4741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3B48E-FCC3-49F4-A0F1-D57CF81C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B4B-2FAB-4CFF-82CA-A72CE5B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7BABA-FD2A-4FE9-A851-ADC2AD3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2F8B1-630E-41D9-87FA-570E6A7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3C2D4-C2FF-48B9-BD20-3F15F2B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8232A-09CD-4EBF-838B-A4D793D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D0378-8BBF-4AA2-B9E1-E80D1995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4068E-905D-4BBC-8BCC-9B471FA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9F518-57D8-4E42-9E57-73BB1FD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809B6-E54B-4B35-94FF-9D2C277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F658F-737D-482F-94BB-89B09FDC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639CE-67B0-4212-A544-CB6E9F4C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92F-720A-4297-86A0-5E4982C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30942-6958-4176-BBF7-FAD5D02A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95931-410B-4A51-A396-3BB978E3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536C2-39C7-435E-AAF6-AE8C6F6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C4E4F-F912-44BC-A991-89DA275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C3140-592F-4676-B308-77F2852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6F486-E46D-475F-AED4-D6A7C6A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91009-BF22-44BE-9A2B-D76EC8D9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E280D-5573-455A-9FF5-888CD7E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01554-A393-4FC3-8F01-8F64DD9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A76C9-AC0E-499F-9F2F-25CDC54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DBF-1A18-4736-ADE7-5EFF313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C9E35-4E43-4E4B-BACF-D703629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3C14E-E204-4A04-A50A-0DC960D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97B05-2693-4D4C-AB0F-E56751C5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2D3F0-E001-4556-A8D6-453857E8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0686E-90BF-43F3-9AC9-81B15C3D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B2657-0890-4925-8A27-5CE1D7E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668F9-5F8B-4B60-AC3A-CC70D58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5FA2C-4D3E-42E0-BE36-68C290EA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107A1-0687-433B-A8A1-01C3FAC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4DAB6-07C5-4AFE-B1BC-4CF9B7A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74E-F788-41E0-99AC-ADE0CF13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331-23D1-4227-BAC0-480C5E5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92FA0-BFD8-4543-97F2-8047C05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EF463-E4D3-4DAE-A997-93F9E66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67831-4FF9-4710-9F44-0636AC20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8F02E-BAF1-4FBD-803E-D787782C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01784-EC55-4D76-BC58-6A9032A1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1EFEC-DD13-4FAC-A2B7-C912C4C2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6475D-9E64-41F9-ACDC-928E8DB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BCAD2-FED9-4927-9F64-E3B05402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DA6B1-3AB2-42AA-A2D3-70C782B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33943-5758-487E-8459-91114317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53EB-5487-4FC5-9774-096F436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0DC7B-C21B-429E-BF9A-E67616D6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D0A7D-739C-43D8-B6A4-75C4067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22F6F-B886-494D-B69D-4AF4AA7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8AEC2-536C-4F9D-9156-0B5D2B3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93720-8D38-4EBA-9E16-AB2A2BF3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62F40-FD52-4A9F-8F58-5AD6F545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C41E1-2668-4A81-A23E-0851C64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483AC-2738-4F09-B59A-055DDEF9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EC95D-F38E-40E9-9789-44682AE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D5774-6D12-4ECB-BB00-92F5995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3415-E028-40FB-863D-4B10C95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8CAED-DFBE-4760-8746-2B24178E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D2B8C-6478-4534-8C1D-727A8A9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930C3-6138-4A62-AFA8-7B5ADB2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21527-F12B-4E36-9CEC-A690EFC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C33EA-FF43-4A24-81DC-4B3BDCE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59C2A-A8ED-44CF-A7CC-14F5003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57F79-8CF1-4FF3-BDA7-E520301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23FE6-3254-4EBC-B142-05AA3C0E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84405-9ECB-4DD3-98E1-43608085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990D7-215F-49FE-A327-3C86BA21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3811-716E-4981-9703-EF8E5A98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DDC38-AA0E-4EF9-91D1-7CCC2B5C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4D22B-511F-4FB8-8BF5-3C8A3E1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0E2A9-7E26-4A14-8E51-B465179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C99C0-4FB3-42EB-BE1A-5E81F3EA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469B2-15BC-4441-97E1-A93D53A2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00A6B-704C-48E6-A2FE-7808242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CDFC9-EC59-4D25-AD96-9B55F24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E1791-E8D6-49B8-B06C-4BB8A0F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ED938-D22E-4132-9191-FE8FF2C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22301-2D52-4A37-9FBC-B9F4911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4FB-A691-4E68-BDF9-86C6770F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45780-4EC1-4D3A-A68F-04A1B3F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9FEA9-3194-490F-99EC-C2B2A90A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35611-A197-46DB-9946-96DCA66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97F7E-6027-4897-8647-EC45456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06D53-6C1B-4778-A316-8EFE042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87599-4416-49DD-BCE6-7A251B06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F6939-5AA9-4423-A8D0-9C25912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9CC80-713B-493E-B94B-1BDF172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8101A-DE9A-4BDF-B599-EA14BE8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E5518-03FF-4262-88CF-0E157BB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BD7F-2634-45D3-A2C3-427A6245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A94B6-FB74-4FEF-982D-EE490114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B44E2-FD29-4013-AC80-AB9027EF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C905C-D98E-4D25-98A2-0AF86D00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29CC-BD41-4FC4-9178-D843EBA6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3371-2FC6-4A65-BBEF-A72AAB0A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7BF9-4ACB-4C5A-BF15-AE9DEA84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254D-89D0-4E10-888A-1A8474A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6E1-5F63-4D16-8398-989813AC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854A-87A2-4C21-98AD-A6C9BB3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DC28-0AD6-46A3-A831-563A25C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05F7-E24A-48E1-946D-AA28679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40D5-83FA-4E42-B5A9-9C5A2EE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CD44-E77B-44BD-A7A5-F3D487F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7CA3-A392-45F3-84F0-20B616B9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4F4C-05C6-4E7F-9943-1B358383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914C-B888-4FF8-A74D-AD8795DF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6271-9E32-4B00-990C-0D13CD3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5EF4-9ACB-4F7D-83E8-E96A42C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19F-00B1-425D-9C86-CDD8CB61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B753-D319-4444-965B-B02889D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FE95-6FF2-439E-859A-6C4F730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02DF-5BB4-43FE-BCB7-75CCC29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9FEB-8153-47CB-B8A7-A72D195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1487-71B6-4366-A526-9E234F6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EE90-2CF1-41B0-9763-B9A74D2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316C-4737-4A16-BC11-8F7A1F75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548E-F9EA-4E3D-AD85-582A74CB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AFE34-C3CB-45A5-A74E-FD209AE4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9687-C6BF-4D6C-BD58-7EFDC41F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752-66CE-4A39-9DB9-B1D26A5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1294-D279-42E0-95EB-59A3899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F146-9A7F-4F0F-A52C-5550939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51D8-7155-417F-B431-AC47115B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1E18-F1A2-435F-9FBB-E0BA925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320F-8302-408E-BE76-B13A3EB5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1ED04-4D2A-4BEB-B9AE-D65B267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408C3-FC1A-47FE-A186-5CE25DF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A279-FF75-47EC-97B6-CA887EA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E56D-54DE-4C55-B969-EB61C3B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8C85-30AA-4C90-A3DE-4B4BAC8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0FA-E77D-4E87-9C01-FF551385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6EDD-103E-41A6-A7A6-F0E9C07E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9E88-4D7C-4947-83B9-A61EAE6C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D007-C7A6-4B10-BCB2-25F68EE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6D49-5AEC-422E-894A-E59086A4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47AF-A25A-470D-AAD7-C0663D2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74D6-2783-45D1-8770-1FC85BA7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CD7D0-819F-4CA8-9CD3-7791FCD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215D-4DC2-4566-B1A0-EB27747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CBD30-7BFF-412F-B967-B5F9C1C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9448-EC67-44B9-8A0F-FFCCA97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84C-A6F6-488A-BC5D-0414ED2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3DC9-CFD9-4BD6-BEEA-194A0FC3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C5B7-CB8B-49C5-A56D-E085494E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7599-DC53-4BF2-B138-98147D6B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640B-136A-41DF-A53F-F062CE3B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2831-AD45-4825-9FF4-5864BAD2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FF3E-376D-41D6-BCC1-40D8525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0088-E4FB-4CDA-89EB-F14B65F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31D7-D9D2-4783-929C-F737233C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A2BE-D23F-4CBC-8939-79529A0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EAE56-B71B-4777-8384-1F637AF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E7F-5F53-46D8-90A3-51B04EA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0FD7B-F4F3-40A1-B255-3D909086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5220B-35BD-4654-82C4-47FE7AA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0DC7-B19C-4D34-9DEF-619A660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6B576-AA20-4710-B4FE-C14F923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9B62-F02F-4FB6-AD06-E200E814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9324-2AED-451A-8971-29DD87FD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CD20-B4AE-44A5-8BAF-AE1A317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1CB9A-5CD3-4061-820C-BE692617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F464-A7EE-4E2F-B823-15633574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11CE-3321-40FE-ABBF-12FB11E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EF8-3454-4276-A3D3-D9AF7A9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3538-50E6-40A4-AACB-C71A9739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4AEA5-2F72-4ACA-85E6-416514E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6D2DB-E71B-46E6-92D0-67F3B05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5C08-3A2E-4E56-AF3E-D505B9A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D80B-7ABA-4278-82E0-D787906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AD57-2C37-459B-AFC4-7D20319F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F41C-1A3C-4BFB-B4A6-3FFA5F56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33C1-0106-4729-A664-BF1B0A59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D6EC3-2EE8-4343-8A83-FD187EB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262A1-A041-4978-8094-C76DFA3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075-BE18-4521-83AB-9FDB4C8265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F79-BE30-4A2D-9675-822C51EE7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DFC-A82A-4D5B-A828-7E5D14560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702-D44F-4FB8-A96B-D80567D2D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27D-E8BE-4472-908E-D282832C7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B262-AEE3-4974-9EAD-31A11EEB0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6A6-85F0-48AA-A558-D7A0260230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07A-7385-40FF-95ED-341E1826B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C0A-7ABD-4F2A-8D47-85C2418867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762-B527-446D-9926-AAF2C4727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E963-3A66-473C-9592-B154E86D1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44CD-5882-466D-B5BE-E0179E4E9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8689-5C96-41CE-BEB6-E6598CE604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5F9F-7C87-4EFA-AFE2-E1411264F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65CE-9EF2-41E9-809C-504EB1E29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51F-9040-431D-A63D-89CF637761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346-4671-4D83-8E2D-875E97D23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579-E47A-4C69-A4CC-5146C2CAE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2E7-69C0-4070-A6AA-4A579E0C5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381-7F56-4DBB-82B6-22D0539F7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5EF4-F56E-4D9C-8423-A067F99FB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F6A-8B1E-4DAB-8972-A89CE69B7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3BE6-498B-4255-8EE7-4CEB17787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937-AE9C-4E6E-94FA-C48BADC8B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0E0-57F0-471C-A0C5-0BD531D97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B49E-3E03-4B13-8083-BA50D30FE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8F0-B10C-41E3-81CE-D418C4FC9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3DAF-F56F-4290-B209-C67155E532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7D0-A973-440F-9074-F9A0B6F3D1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BD7-58C6-49BD-A079-7B2C96B36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88E-D3BA-4F42-BE0C-CC8D272450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C9D-FF9F-43F3-9A8C-68C19F3E2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7129-5BF7-43F1-AAF1-2C75461CE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2EA-EAE4-4EA3-B38B-5AD1F9B3D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2D4E-9ABF-4EB7-8086-9AC8C3C7C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3D1-3AE7-4C20-930E-10318F75E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10F-7A23-43BB-B871-71C242A5C6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AFA6-F55F-43C7-83AF-8B7E20CFEB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54E-2253-497B-84FB-568E60194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60B-FE92-4663-A17E-2714A4538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76360" y="2886120"/>
            <a:ext cx="6191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171360" y="965160"/>
            <a:ext cx="8801280" cy="5343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5640" y="577692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04760" y="914400"/>
            <a:ext cx="8934480" cy="5029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979640" y="544500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900000" y="1719360"/>
            <a:ext cx="7344000" cy="3419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4859280" y="24354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708360" y="3213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1979640" y="4653000"/>
            <a:ext cx="201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33200" y="747720"/>
            <a:ext cx="8877600" cy="5705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812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74072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42920" y="816120"/>
            <a:ext cx="8858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781200" y="1319040"/>
            <a:ext cx="7581600" cy="4219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692360" y="152892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398840" y="152892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135920" y="15271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276720" y="39481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6084720" y="3817800"/>
            <a:ext cx="6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152280" y="814320"/>
            <a:ext cx="8839440" cy="56390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5301" descr=""/>
          <p:cNvPicPr/>
          <p:nvPr/>
        </p:nvPicPr>
        <p:blipFill>
          <a:blip r:embed="rId2"/>
          <a:stretch/>
        </p:blipFill>
        <p:spPr>
          <a:xfrm>
            <a:off x="2568600" y="3294000"/>
            <a:ext cx="47530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533520" y="679320"/>
            <a:ext cx="8076960" cy="613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2879640" cy="158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278604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5364000" y="2967120"/>
            <a:ext cx="2880000" cy="1584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458040" y="2160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590840" y="5202360"/>
            <a:ext cx="2879640" cy="1584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298764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5321160" y="5216400"/>
            <a:ext cx="2880000" cy="1584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6718320" y="4724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723960" y="1843200"/>
            <a:ext cx="7696080" cy="317160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2232" descr=""/>
          <p:cNvPicPr/>
          <p:nvPr/>
        </p:nvPicPr>
        <p:blipFill>
          <a:blip r:embed="rId2"/>
          <a:stretch/>
        </p:blipFill>
        <p:spPr>
          <a:xfrm>
            <a:off x="1533600" y="2478240"/>
            <a:ext cx="2457360" cy="25430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2233" descr=""/>
          <p:cNvPicPr/>
          <p:nvPr/>
        </p:nvPicPr>
        <p:blipFill>
          <a:blip r:embed="rId3"/>
          <a:stretch/>
        </p:blipFill>
        <p:spPr>
          <a:xfrm>
            <a:off x="4529160" y="2838600"/>
            <a:ext cx="3753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12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